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A2B3-4174-40A4-ABA5-3106A84EE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1D8B-D089-4D35-B14B-E6FF3DC05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8EA8-5C87-49EE-A8B5-0C78D0535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FECB-5C41-4E8E-8D79-B48168312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30D97-17B1-490E-8D08-72A9DAD78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4FFDA-2F82-4BEC-B324-39B73A7B4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DB8F2-E3FC-4856-8B2B-C8A31E524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5C4A6-3575-4C11-BE16-3C50E7A89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67831-2475-4DFD-9F93-EFF54C523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787E9-05B4-48C2-A99D-8EE64447C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46B24-D4A7-4E62-99DD-63D8AA39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B30E-FA79-454A-ADF0-60563D7C5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1E499-742E-41D4-9212-A2A27440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FF583-D0E3-47D3-8DB8-1CD39950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A432C-80B4-4BC0-AE70-3BD7AAE73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449D0-08F5-4B9C-A3C5-20E03844A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43368-FBF2-416C-8048-5E47622E2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364C3-9EB0-45E2-8EAC-A69ED0081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A97F4-ABF1-4A14-8644-E1385F321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A52E4-D227-4AD8-A75A-C6297B98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A3971-5B99-4EEC-879B-9A85CCC19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6730C-0E1E-48CE-93DF-BE63EA2C4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1EC1-67F7-4100-A915-A2B40FB3E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037A2-3F29-4978-9A85-7021A0B49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CB5B9-93B2-41C0-A992-5EBD37AC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FD598-12D4-4998-95BC-8D47F80C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A8862-BF2E-4F35-8B1C-DEA6020B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86F49-E495-4772-9C22-9475D0DF4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AC363-AB61-4B77-A3FD-0273C4AA4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3267A-3EAF-4851-BB18-E4837B210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74906-AB37-487D-9802-804156B8E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50BC1-E799-4F2B-BAE5-51A004BD2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8E683-1C88-4877-A51B-9DB523A16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E3A3-96FB-48B0-8111-C7C1EEDAB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B6308-49EE-4E7C-8FCD-1E2094BDA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83BC9-3F35-473A-9ED4-089C914FA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5CD89-9CF9-489D-A8B4-9A8D47FF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C607A-EDAE-4FD9-9B12-9A6CC750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D15D2-9513-4282-88DE-AA0708EE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F4C55-C614-43C6-B0C5-D835EB64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4843B-7D49-4029-BF47-6A49ACCD1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3F45B-1ADD-4866-AD7D-B44398C66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6C486-CAF9-46C0-8CB6-9368129AD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D73F8-0EB4-41FB-8C4A-BEFD61982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798D-20E2-4508-8BF5-E6A980EBE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FDEF2-775E-463A-87C7-2492666B4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DBEB6-5409-48D7-9642-3CB22CDBE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63A45-B4F1-4883-A8B3-B3AEF8EB3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EB40F-D9E3-44A2-A56B-F9A000548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E1266-C178-430C-91FF-1F174FE5A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686FB-F82C-47CC-A633-E7FE1791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DD54D-C1CB-4CB5-8FD8-098C8886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B7F83-D565-4A10-8186-E350A133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08532-0812-4050-9553-8D4E0CE0B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CCDD2-7968-4588-B5B0-EF0F8C169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72AB-B226-45DD-B3FA-45A301617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9CFE9-A18B-4037-B3C4-96AB69507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6AC4A4-3385-4B5F-8E7C-4DF39EA1E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27A9B-BD93-42F7-80BD-454E5AE87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FE39B-0BC1-4FCA-9185-D30E83E37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D6002-9CEB-42BF-8721-C26480C9F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00900-8E9F-4842-954C-320E3E357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B8217-D023-4F29-A979-2FCF6C196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E3335-6EB4-4510-8790-BCE6E855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E3FFE-0B6A-4F78-A567-57C66BC1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771D6-D152-4310-AA32-33F31AA5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0422-ADA9-4BCA-9C6C-D562A4DE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0FD076-F5C7-464B-B2F7-FE77B8224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E94DE-4713-45E9-A573-1CB85A643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1223F-4313-4437-BC66-796CE1CA8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0FC13-4E68-43CF-BDD9-CCA97FC34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2E7E8-390A-4986-9B39-CC9C30D2D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C9C255-995B-4379-B54D-10EFF411D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8C283-3BA3-4620-ABD3-B9FA385C2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14190-F34A-4DC1-823C-FB764479B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E5680-9331-49A6-8C90-4CD522C17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69400-7443-4A23-A8AF-490BD7D9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5239-F29B-4539-968E-F188245E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88995-E44E-438D-B4A7-353D56E2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AFC6EF-2FEF-4AE6-8C4A-94C335F3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2AF004-ECAC-41AA-8B77-DA4C0E577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78C73-7CA1-4F9E-9D90-AA908D9F0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8606EE-BA28-42C6-AA8D-19BB90660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A1C6-ED4D-41E3-BCAB-4DADF7DB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E6F92-EDB8-4FA3-9961-941E339E986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DAE7E-F475-4578-B7A6-992F204AEE8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4E3B5-7A48-4C7C-A16A-9D2E430B9A7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51835-989B-43EA-92CA-B2CC1A5FB5F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0C2E4-E5A0-4255-8AED-9B619B5FA2F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42935-5ED7-474F-9A0E-8CEDB17A8C7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92B85-7AC2-4691-AA6E-7BD8C56B9EB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Прямоугольник с двумя скругленными противолежащими углами 4"/>
          <p:cNvGrpSpPr/>
          <p:nvPr/>
        </p:nvGrpSpPr>
        <p:grpSpPr>
          <a:xfrm>
            <a:off x="865080" y="208080"/>
            <a:ext cx="8223480" cy="730080"/>
            <a:chOff x="865080" y="208080"/>
            <a:chExt cx="8223480" cy="730080"/>
          </a:xfrm>
        </p:grpSpPr>
        <p:pic>
          <p:nvPicPr>
            <p:cNvPr id="319" name="Прямоугольник с двумя скругленными противолежащими углами 4" descr=""/>
            <p:cNvPicPr/>
            <p:nvPr/>
          </p:nvPicPr>
          <p:blipFill>
            <a:blip r:embed="rId1"/>
            <a:stretch/>
          </p:blipFill>
          <p:spPr>
            <a:xfrm>
              <a:off x="865080" y="208080"/>
              <a:ext cx="8223480" cy="73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1009800" y="326880"/>
              <a:ext cx="7934040" cy="44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Georgia"/>
                </a:rPr>
                <a:t>Бюджетный процесс муниципального образования город Омск Омской области</a:t>
              </a:r>
              <a:r>
                <a:rPr b="1" lang="ru-RU" sz="1400" spc="-1" strike="noStrike">
                  <a:solidFill>
                    <a:srgbClr val="ffffff"/>
                  </a:solidFill>
                  <a:latin typeface="Georgi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aphicFrame>
        <p:nvGraphicFramePr>
          <p:cNvPr id="321" name="Object 55"/>
          <p:cNvGraphicFramePr/>
          <p:nvPr/>
        </p:nvGraphicFramePr>
        <p:xfrm>
          <a:off x="250920" y="73080"/>
          <a:ext cx="506160" cy="428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2" name="Object 5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73080"/>
                    <a:ext cx="506160" cy="42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TextBox 6"/>
          <p:cNvSpPr/>
          <p:nvPr/>
        </p:nvSpPr>
        <p:spPr>
          <a:xfrm>
            <a:off x="928800" y="0"/>
            <a:ext cx="371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75a8d"/>
                </a:solidFill>
                <a:latin typeface="Arial Black"/>
              </a:rPr>
              <a:t>Администрация города Омска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TextBox 1"/>
          <p:cNvSpPr/>
          <p:nvPr/>
        </p:nvSpPr>
        <p:spPr>
          <a:xfrm>
            <a:off x="1015920" y="907920"/>
            <a:ext cx="8093160" cy="39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Georgia"/>
              </a:rPr>
              <a:t>Бюджетный процесс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– регламентируемая государством деятельность участников бюджетного процесса по составлению и рассмотрению проектов бюджетов, утверждению и исполнению бюджетов, контролю за их исполнением, осуществлению бюджетного учета, составлению, внешней проверке, рассмотрению и утверждению бюджетной отчетности.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Начиная с формирования и исполнения бюджета города Омска до момента утверждения отчета о его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исполнении, выделяют следующие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Georgia"/>
              </a:rPr>
              <a:t>стадии бюджетного процесса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- составление проекта бюджета — подготовка экономического обоснования доходов и расходов бюджета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- рассмотрение и утверждение проекта бюджета — рассмотрение, согласование и принятие Решения Омского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городского Совета о бюджете на очередной финансовый год и плановый период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- исполнение бюджета — получение доходов бюджета и распределение бюджетных средств в соответствии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с Решением Омского городского Совета о бюджете на очередной финансовый год и плановый период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- контроль за исполнением бюджета и отчет об исполнении бюджета — текущий контроль за использованием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бюджетных средств в процессе исполнения бюджета и подведение итогов исполнения бюджета по окончании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финансового года.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TextBox 3"/>
          <p:cNvSpPr/>
          <p:nvPr/>
        </p:nvSpPr>
        <p:spPr>
          <a:xfrm>
            <a:off x="665640" y="6369120"/>
            <a:ext cx="86893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Бюджетный процесс подразумевает определенный порядок и последовательность вступления в бюджетные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отношения  различных субъектов, являющихся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Georgia"/>
              </a:rPr>
              <a:t>участниками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этих отношений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TextBox 10"/>
          <p:cNvSpPr/>
          <p:nvPr/>
        </p:nvSpPr>
        <p:spPr>
          <a:xfrm>
            <a:off x="3422880" y="3595680"/>
            <a:ext cx="319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Georgia"/>
              </a:rPr>
              <a:t>Стадии бюджетного процесса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327" name="Группа 58"/>
          <p:cNvGrpSpPr/>
          <p:nvPr/>
        </p:nvGrpSpPr>
        <p:grpSpPr>
          <a:xfrm>
            <a:off x="1001880" y="3938760"/>
            <a:ext cx="8018280" cy="2226960"/>
            <a:chOff x="1001880" y="3938760"/>
            <a:chExt cx="8018280" cy="2226960"/>
          </a:xfrm>
        </p:grpSpPr>
        <p:grpSp>
          <p:nvGrpSpPr>
            <p:cNvPr id="328" name="Скругленный прямоугольник 7"/>
            <p:cNvGrpSpPr/>
            <p:nvPr/>
          </p:nvGrpSpPr>
          <p:grpSpPr>
            <a:xfrm>
              <a:off x="1001880" y="4642920"/>
              <a:ext cx="2616840" cy="658440"/>
              <a:chOff x="1001880" y="4642920"/>
              <a:chExt cx="2616840" cy="658440"/>
            </a:xfrm>
          </p:grpSpPr>
          <p:pic>
            <p:nvPicPr>
              <p:cNvPr id="329" name="Скругленный прямоугольник 7" descr=""/>
              <p:cNvPicPr/>
              <p:nvPr/>
            </p:nvPicPr>
            <p:blipFill>
              <a:blip r:embed="rId4"/>
              <a:stretch/>
            </p:blipFill>
            <p:spPr>
              <a:xfrm>
                <a:off x="1001880" y="4642920"/>
                <a:ext cx="2616840" cy="65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0" name=""/>
              <p:cNvSpPr/>
              <p:nvPr/>
            </p:nvSpPr>
            <p:spPr>
              <a:xfrm>
                <a:off x="1071720" y="4761720"/>
                <a:ext cx="2422440" cy="47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3b1d15"/>
                    </a:solidFill>
                    <a:latin typeface="Georgia"/>
                  </a:rPr>
                  <a:t>Стадия 1. Составление проекта бюджета</a:t>
                </a:r>
                <a:endParaRPr b="0" lang="en-US" sz="12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grpSp>
          <p:nvGrpSpPr>
            <p:cNvPr id="331" name="Скругленный прямоугольник 9"/>
            <p:cNvGrpSpPr/>
            <p:nvPr/>
          </p:nvGrpSpPr>
          <p:grpSpPr>
            <a:xfrm>
              <a:off x="6403320" y="4602600"/>
              <a:ext cx="2616840" cy="652680"/>
              <a:chOff x="6403320" y="4602600"/>
              <a:chExt cx="2616840" cy="652680"/>
            </a:xfrm>
          </p:grpSpPr>
          <p:pic>
            <p:nvPicPr>
              <p:cNvPr id="332" name="Скругленный прямоугольник 9" descr=""/>
              <p:cNvPicPr/>
              <p:nvPr/>
            </p:nvPicPr>
            <p:blipFill>
              <a:blip r:embed="rId5"/>
              <a:stretch/>
            </p:blipFill>
            <p:spPr>
              <a:xfrm>
                <a:off x="6403320" y="4602600"/>
                <a:ext cx="2616840" cy="65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3" name=""/>
              <p:cNvSpPr/>
              <p:nvPr/>
            </p:nvSpPr>
            <p:spPr>
              <a:xfrm>
                <a:off x="6472800" y="4717440"/>
                <a:ext cx="2422440" cy="47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3b1d15"/>
                    </a:solidFill>
                    <a:latin typeface="Georgia"/>
                  </a:rPr>
                  <a:t>Стадия 3. Исполнение бюджета</a:t>
                </a:r>
                <a:endParaRPr b="0" lang="en-US" sz="12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grpSp>
          <p:nvGrpSpPr>
            <p:cNvPr id="334" name="Скругленный прямоугольник 11"/>
            <p:cNvGrpSpPr/>
            <p:nvPr/>
          </p:nvGrpSpPr>
          <p:grpSpPr>
            <a:xfrm>
              <a:off x="3720600" y="3938760"/>
              <a:ext cx="2610720" cy="807120"/>
              <a:chOff x="3720600" y="3938760"/>
              <a:chExt cx="2610720" cy="807120"/>
            </a:xfrm>
          </p:grpSpPr>
          <p:pic>
            <p:nvPicPr>
              <p:cNvPr id="335" name="Скругленный прямоугольник 11" descr=""/>
              <p:cNvPicPr/>
              <p:nvPr/>
            </p:nvPicPr>
            <p:blipFill>
              <a:blip r:embed="rId6"/>
              <a:stretch/>
            </p:blipFill>
            <p:spPr>
              <a:xfrm>
                <a:off x="3720600" y="3938760"/>
                <a:ext cx="2610720" cy="807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6" name=""/>
              <p:cNvSpPr/>
              <p:nvPr/>
            </p:nvSpPr>
            <p:spPr>
              <a:xfrm>
                <a:off x="3795120" y="4064400"/>
                <a:ext cx="240660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3b1d15"/>
                    </a:solidFill>
                    <a:latin typeface="Georgia"/>
                  </a:rPr>
                  <a:t>Стадия 2. Рассмотрение и утверждение проекта бюджета</a:t>
                </a:r>
                <a:endParaRPr b="0" lang="en-US" sz="12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grpSp>
          <p:nvGrpSpPr>
            <p:cNvPr id="337" name="Скругленный прямоугольник 12"/>
            <p:cNvGrpSpPr/>
            <p:nvPr/>
          </p:nvGrpSpPr>
          <p:grpSpPr>
            <a:xfrm>
              <a:off x="3684600" y="5307120"/>
              <a:ext cx="2616840" cy="858600"/>
              <a:chOff x="3684600" y="5307120"/>
              <a:chExt cx="2616840" cy="858600"/>
            </a:xfrm>
          </p:grpSpPr>
          <p:pic>
            <p:nvPicPr>
              <p:cNvPr id="338" name="Скругленный прямоугольник 12" descr=""/>
              <p:cNvPicPr/>
              <p:nvPr/>
            </p:nvPicPr>
            <p:blipFill>
              <a:blip r:embed="rId7"/>
              <a:stretch/>
            </p:blipFill>
            <p:spPr>
              <a:xfrm>
                <a:off x="3684600" y="5307120"/>
                <a:ext cx="2616840" cy="85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9" name=""/>
              <p:cNvSpPr/>
              <p:nvPr/>
            </p:nvSpPr>
            <p:spPr>
              <a:xfrm>
                <a:off x="3761640" y="5485680"/>
                <a:ext cx="2407680" cy="60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3b1d15"/>
                    </a:solidFill>
                    <a:latin typeface="Georgia"/>
                  </a:rPr>
                  <a:t>Стадия 4. Контроль за исполнением бюджета и отчет об исполнении бюджета</a:t>
                </a:r>
                <a:endParaRPr b="0" lang="en-US" sz="12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sp>
          <p:nvSpPr>
            <p:cNvPr id="340" name="Прямая соединительная линия 27"/>
            <p:cNvSpPr/>
            <p:nvPr/>
          </p:nvSpPr>
          <p:spPr>
            <a:xfrm flipV="1">
              <a:off x="2282760" y="4182120"/>
              <a:ext cx="0" cy="509400"/>
            </a:xfrm>
            <a:prstGeom prst="line">
              <a:avLst/>
            </a:prstGeom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cxnSp>
          <p:nvCxnSpPr>
            <p:cNvPr id="341" name="Прямая со стрелкой 29"/>
            <p:cNvCxnSpPr/>
            <p:nvPr/>
          </p:nvCxnSpPr>
          <p:spPr>
            <a:xfrm>
              <a:off x="2282400" y="4182120"/>
              <a:ext cx="1445040" cy="1080"/>
            </a:xfrm>
            <a:prstGeom prst="straightConnector1">
              <a:avLst/>
            </a:prstGeom>
            <a:ln w="25560">
              <a:solidFill>
                <a:srgbClr val="7f7f7f"/>
              </a:solidFill>
              <a:miter/>
              <a:tailEnd len="med" type="triangle" w="med"/>
            </a:ln>
          </p:spPr>
        </p:cxnSp>
        <p:cxnSp>
          <p:nvCxnSpPr>
            <p:cNvPr id="342" name="Прямая со стрелкой 30"/>
            <p:cNvCxnSpPr/>
            <p:nvPr/>
          </p:nvCxnSpPr>
          <p:spPr>
            <a:xfrm>
              <a:off x="6236280" y="4152240"/>
              <a:ext cx="1449720" cy="1080"/>
            </a:xfrm>
            <a:prstGeom prst="straightConnector1">
              <a:avLst/>
            </a:prstGeom>
            <a:ln w="25560">
              <a:solidFill>
                <a:srgbClr val="7f7f7f"/>
              </a:solidFill>
              <a:miter/>
            </a:ln>
          </p:spPr>
        </p:cxnSp>
        <p:sp>
          <p:nvSpPr>
            <p:cNvPr id="343" name="Прямая соединительная линия 31"/>
            <p:cNvSpPr/>
            <p:nvPr/>
          </p:nvSpPr>
          <p:spPr>
            <a:xfrm flipV="1">
              <a:off x="7685640" y="4153320"/>
              <a:ext cx="0" cy="538200"/>
            </a:xfrm>
            <a:prstGeom prst="line">
              <a:avLst/>
            </a:prstGeom>
            <a:ln w="25560">
              <a:solidFill>
                <a:srgbClr val="7f7f7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44" name="Прямая соединительная линия 32"/>
            <p:cNvSpPr/>
            <p:nvPr/>
          </p:nvSpPr>
          <p:spPr>
            <a:xfrm flipV="1">
              <a:off x="7681320" y="5215680"/>
              <a:ext cx="0" cy="597960"/>
            </a:xfrm>
            <a:prstGeom prst="line">
              <a:avLst/>
            </a:prstGeom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cxnSp>
          <p:nvCxnSpPr>
            <p:cNvPr id="345" name="Прямая со стрелкой 33"/>
            <p:cNvCxnSpPr/>
            <p:nvPr/>
          </p:nvCxnSpPr>
          <p:spPr>
            <a:xfrm>
              <a:off x="6236280" y="5814000"/>
              <a:ext cx="1445040" cy="1080"/>
            </a:xfrm>
            <a:prstGeom prst="straightConnector1">
              <a:avLst/>
            </a:prstGeom>
            <a:ln w="25560">
              <a:solidFill>
                <a:srgbClr val="7f7f7f"/>
              </a:solidFill>
              <a:miter/>
              <a:headEnd len="med" type="triangle" w="med"/>
            </a:ln>
          </p:spPr>
        </p:cxnSp>
        <p:cxnSp>
          <p:nvCxnSpPr>
            <p:cNvPr id="346" name="Прямая со стрелкой 34"/>
            <p:cNvCxnSpPr/>
            <p:nvPr/>
          </p:nvCxnSpPr>
          <p:spPr>
            <a:xfrm>
              <a:off x="2301120" y="5814000"/>
              <a:ext cx="1426680" cy="1080"/>
            </a:xfrm>
            <a:prstGeom prst="straightConnector1">
              <a:avLst/>
            </a:prstGeom>
            <a:ln w="25560">
              <a:solidFill>
                <a:srgbClr val="7f7f7f"/>
              </a:solidFill>
              <a:miter/>
            </a:ln>
          </p:spPr>
        </p:cxnSp>
        <p:sp>
          <p:nvSpPr>
            <p:cNvPr id="347" name="Прямая соединительная линия 36"/>
            <p:cNvSpPr/>
            <p:nvPr/>
          </p:nvSpPr>
          <p:spPr>
            <a:xfrm flipV="1">
              <a:off x="2301480" y="5260320"/>
              <a:ext cx="0" cy="553680"/>
            </a:xfrm>
            <a:prstGeom prst="line">
              <a:avLst/>
            </a:prstGeom>
            <a:ln w="25560">
              <a:solidFill>
                <a:srgbClr val="7f7f7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48" name="Прямая соединительная линия 44"/>
            <p:cNvSpPr/>
            <p:nvPr/>
          </p:nvSpPr>
          <p:spPr>
            <a:xfrm flipV="1">
              <a:off x="2516400" y="4369320"/>
              <a:ext cx="0" cy="322560"/>
            </a:xfrm>
            <a:prstGeom prst="line">
              <a:avLst/>
            </a:prstGeom>
            <a:ln w="25560">
              <a:solidFill>
                <a:srgbClr val="7f7f7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cxnSp>
          <p:nvCxnSpPr>
            <p:cNvPr id="349" name="Прямая со стрелкой 46"/>
            <p:cNvCxnSpPr/>
            <p:nvPr/>
          </p:nvCxnSpPr>
          <p:spPr>
            <a:xfrm>
              <a:off x="2516400" y="4368960"/>
              <a:ext cx="1211760" cy="1080"/>
            </a:xfrm>
            <a:prstGeom prst="straightConnector1">
              <a:avLst/>
            </a:prstGeom>
            <a:ln w="25560">
              <a:solidFill>
                <a:srgbClr val="7f7f7f"/>
              </a:solidFill>
              <a:miter/>
            </a:ln>
          </p:spPr>
        </p:cxnSp>
        <p:sp>
          <p:nvSpPr>
            <p:cNvPr id="350" name="Прямая соединительная линия 48"/>
            <p:cNvSpPr/>
            <p:nvPr/>
          </p:nvSpPr>
          <p:spPr>
            <a:xfrm flipV="1">
              <a:off x="2507400" y="5260320"/>
              <a:ext cx="0" cy="322560"/>
            </a:xfrm>
            <a:prstGeom prst="line">
              <a:avLst/>
            </a:prstGeom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cxnSp>
          <p:nvCxnSpPr>
            <p:cNvPr id="351" name="Прямая со стрелкой 49"/>
            <p:cNvCxnSpPr/>
            <p:nvPr/>
          </p:nvCxnSpPr>
          <p:spPr>
            <a:xfrm>
              <a:off x="2516400" y="5582880"/>
              <a:ext cx="1211760" cy="1080"/>
            </a:xfrm>
            <a:prstGeom prst="straightConnector1">
              <a:avLst/>
            </a:prstGeom>
            <a:ln w="25560">
              <a:solidFill>
                <a:srgbClr val="7f7f7f"/>
              </a:solidFill>
              <a:miter/>
              <a:tailEnd len="med" type="triangle" w="med"/>
            </a:ln>
          </p:spPr>
        </p:cxnSp>
        <p:cxnSp>
          <p:nvCxnSpPr>
            <p:cNvPr id="352" name="Прямая со стрелкой 50"/>
            <p:cNvCxnSpPr/>
            <p:nvPr/>
          </p:nvCxnSpPr>
          <p:spPr>
            <a:xfrm>
              <a:off x="6236640" y="5593320"/>
              <a:ext cx="1211760" cy="1080"/>
            </a:xfrm>
            <a:prstGeom prst="straightConnector1">
              <a:avLst/>
            </a:prstGeom>
            <a:ln w="25560">
              <a:solidFill>
                <a:srgbClr val="7f7f7f"/>
              </a:solidFill>
              <a:miter/>
            </a:ln>
          </p:spPr>
        </p:cxnSp>
        <p:sp>
          <p:nvSpPr>
            <p:cNvPr id="353" name="Прямая соединительная линия 51"/>
            <p:cNvSpPr/>
            <p:nvPr/>
          </p:nvSpPr>
          <p:spPr>
            <a:xfrm flipV="1">
              <a:off x="7447680" y="5216040"/>
              <a:ext cx="0" cy="377280"/>
            </a:xfrm>
            <a:prstGeom prst="line">
              <a:avLst/>
            </a:prstGeom>
            <a:ln w="25560">
              <a:solidFill>
                <a:srgbClr val="7f7f7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54" name="Прямая соединительная линия 53"/>
            <p:cNvSpPr/>
            <p:nvPr/>
          </p:nvSpPr>
          <p:spPr>
            <a:xfrm flipV="1">
              <a:off x="7447680" y="4356720"/>
              <a:ext cx="0" cy="322560"/>
            </a:xfrm>
            <a:prstGeom prst="line">
              <a:avLst/>
            </a:prstGeom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cxnSp>
          <p:nvCxnSpPr>
            <p:cNvPr id="355" name="Прямая со стрелкой 54"/>
            <p:cNvCxnSpPr/>
            <p:nvPr/>
          </p:nvCxnSpPr>
          <p:spPr>
            <a:xfrm>
              <a:off x="6236640" y="4356360"/>
              <a:ext cx="1211760" cy="1080"/>
            </a:xfrm>
            <a:prstGeom prst="straightConnector1">
              <a:avLst/>
            </a:prstGeom>
            <a:ln w="25560">
              <a:solidFill>
                <a:srgbClr val="7f7f7f"/>
              </a:solidFill>
              <a:miter/>
              <a:head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10:06:15Z</dcterms:created>
  <dc:creator>Галина В. Кузлякина</dc:creator>
  <dc:description/>
  <dc:language>en-US</dc:language>
  <cp:lastModifiedBy>kschernaya</cp:lastModifiedBy>
  <dcterms:modified xsi:type="dcterms:W3CDTF">2013-06-20T08:50:09Z</dcterms:modified>
  <cp:revision>38</cp:revision>
  <dc:subject/>
  <dc:title>Бюджетный процесс города Омск</dc:title>
</cp:coreProperties>
</file>